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8CA-7636-4440-9ADB-E2EBD6B2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ED8-1356-4261-A03B-1C00569C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C6D-90C4-4CBB-B505-63279164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C96-8814-4C7E-8DC8-F7C68B3E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EF4-EB2F-421E-ADE8-B818AA10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AAB-9FF6-4D8F-BD4E-176424FC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9BB-381B-4016-846B-7621F4F0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7D4-6AD9-4873-A91B-A5DB3AB1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9F6-7409-4A15-85C2-9A66B4C0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511-75C7-4C63-BA2C-5BFBA71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1B4-AC38-4270-AC99-339EAD0A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5E4-2A13-4D7F-8A15-A25C57BE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46D2-8D27-451B-B5C9-E7C3E998F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S HISTORY UP TO 19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rianna Sullivan ,Wilson 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RUSSIAS HISTORY BEG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eople called the Slavs started a civilization called the kievan  Rus around present day Kiev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D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48" name="_s12301"/>
            <p:cNvCxnSpPr>
              <a:stCxn id="49" idx="0"/>
              <a:endCxn id="50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2300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12296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NGOLS INVAD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2297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IEV LOST LOTS OF MONE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2298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ST LOTS OF POW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C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ly developed into Rus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48:12Z</dcterms:created>
  <dc:creator> </dc:creator>
  <dc:description/>
  <dc:language>en-US</dc:language>
  <cp:lastModifiedBy> </cp:lastModifiedBy>
  <dcterms:modified xsi:type="dcterms:W3CDTF">2010-12-14T17:23:39Z</dcterms:modified>
  <cp:revision>13</cp:revision>
  <dc:subject/>
  <dc:title>RUSSIA`S HISTORY FROM 1917</dc:title>
</cp:coreProperties>
</file>